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8685-82E2-492E-964F-C596F2E31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C543-DAF8-4F16-8E4A-DEC61070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8B6D-4026-4945-8087-D6395FE8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E0E5-9734-403F-B126-EB3E1C854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6822-6710-40FD-BB7F-D3770483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696C-4787-4D4F-BC5C-C272A161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E5F2-C52B-4434-B5E0-1A5CB81C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681D-B0B7-459A-8C28-BD81FB9A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AF2C-D145-4738-9804-9FD5FFDB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0926-58BA-483F-8D7E-ADF453C7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C156-5C93-4650-82F0-9A5BE4B8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6605-41E9-4BC7-A807-BD23E22F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CC51-8BCC-4580-9EC6-D9E8C22150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7440" y="1676520"/>
            <a:ext cx="4371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g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djustmen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34109"/>
          <a:stretch/>
        </p:blipFill>
        <p:spPr>
          <a:xfrm>
            <a:off x="1143000" y="838080"/>
            <a:ext cx="70102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20528"/>
          <a:stretch/>
        </p:blipFill>
        <p:spPr>
          <a:xfrm>
            <a:off x="838080" y="838080"/>
            <a:ext cx="7391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42058"/>
          <a:stretch/>
        </p:blipFill>
        <p:spPr>
          <a:xfrm>
            <a:off x="1066680" y="1371600"/>
            <a:ext cx="72392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34109"/>
          <a:stretch/>
        </p:blipFill>
        <p:spPr>
          <a:xfrm>
            <a:off x="99072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762120" y="60948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838080" y="838080"/>
            <a:ext cx="7467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762120" y="83808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685800" y="60948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14400" y="91440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762120" y="76212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20866"/>
          <a:stretch/>
        </p:blipFill>
        <p:spPr>
          <a:xfrm>
            <a:off x="1143000" y="91440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0" r="0" b="14633"/>
          <a:stretch/>
        </p:blipFill>
        <p:spPr>
          <a:xfrm>
            <a:off x="685800" y="609480"/>
            <a:ext cx="7620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17499"/>
          <a:stretch/>
        </p:blipFill>
        <p:spPr>
          <a:xfrm>
            <a:off x="762120" y="533520"/>
            <a:ext cx="7619760" cy="5790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666880" y="2895480"/>
            <a:ext cx="38102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0" r="0" b="85017"/>
          <a:stretch/>
        </p:blipFill>
        <p:spPr>
          <a:xfrm>
            <a:off x="990720" y="228600"/>
            <a:ext cx="7619760" cy="1371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rcRect l="0" t="39642" r="0" b="17499"/>
          <a:stretch/>
        </p:blipFill>
        <p:spPr>
          <a:xfrm>
            <a:off x="990720" y="1600200"/>
            <a:ext cx="7619760" cy="2514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76197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39642" r="0" b="17499"/>
          <a:stretch/>
        </p:blipFill>
        <p:spPr>
          <a:xfrm>
            <a:off x="838080" y="1447920"/>
            <a:ext cx="7620120" cy="3047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rcRect l="0" t="13932" r="0" b="75366"/>
          <a:stretch/>
        </p:blipFill>
        <p:spPr>
          <a:xfrm>
            <a:off x="838080" y="380880"/>
            <a:ext cx="7620120" cy="1067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914400" y="4495680"/>
            <a:ext cx="7467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39642" r="0" b="17499"/>
          <a:stretch/>
        </p:blipFill>
        <p:spPr>
          <a:xfrm>
            <a:off x="914400" y="1600200"/>
            <a:ext cx="7620120" cy="3048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24646" r="0" b="66329"/>
          <a:stretch/>
        </p:blipFill>
        <p:spPr>
          <a:xfrm>
            <a:off x="914400" y="609480"/>
            <a:ext cx="7620120" cy="99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90720" y="4648320"/>
            <a:ext cx="7467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0" r="0" b="19752"/>
          <a:stretch/>
        </p:blipFill>
        <p:spPr>
          <a:xfrm>
            <a:off x="685800" y="685800"/>
            <a:ext cx="7924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6923"/>
          <a:stretch/>
        </p:blipFill>
        <p:spPr>
          <a:xfrm>
            <a:off x="762120" y="533520"/>
            <a:ext cx="7924680" cy="5333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38080" y="5029200"/>
            <a:ext cx="7772400" cy="1371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086600" y="6095880"/>
            <a:ext cx="1447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239240" cy="3962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66680" y="838080"/>
            <a:ext cx="7239240" cy="1143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0" y="1752480"/>
            <a:ext cx="1447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4082"/>
          <a:stretch/>
        </p:blipFill>
        <p:spPr>
          <a:xfrm>
            <a:off x="838080" y="762120"/>
            <a:ext cx="7620120" cy="5333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05720" y="5715000"/>
            <a:ext cx="167616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14400" y="5715000"/>
            <a:ext cx="74674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3505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746784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15384"/>
          <a:stretch/>
        </p:blipFill>
        <p:spPr>
          <a:xfrm>
            <a:off x="685800" y="914400"/>
            <a:ext cx="7848720" cy="4343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62120" y="4648320"/>
            <a:ext cx="7619760" cy="990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705720" y="5257800"/>
            <a:ext cx="17524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619760" cy="3353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7619760" cy="990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58000" y="1371600"/>
            <a:ext cx="17524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36713"/>
          <a:stretch/>
        </p:blipFill>
        <p:spPr>
          <a:xfrm>
            <a:off x="838080" y="1219320"/>
            <a:ext cx="76964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9T17:29:20Z</dcterms:modified>
  <cp:revision>201</cp:revision>
  <dc:subject/>
  <dc:title>Slide 1</dc:title>
</cp:coreProperties>
</file>